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8C6-54F9-4824-B75D-3F20D6AB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E90-4C07-4DB0-B0F9-FADCA748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B4C-BBC8-479E-81D0-0E774945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9F3-9558-48E0-9447-688029A8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A8E-F7D4-4D35-9ADB-CA1583AF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9420-CF75-43A5-A674-DF44AA6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0C31-0A9A-475F-A78B-F288B99C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CE7C-A94E-4DBE-B18E-312A2EF8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3D41-0430-47AA-A241-A58FD789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0EF-8436-4112-A3F7-DB16CDA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E4E-AC1F-4ED9-BD2E-7AB442F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3AB-05A6-48B2-90F1-EABC5C06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B5CD-AB23-44C7-A047-CD8519C9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2EA3-87CB-4698-B6D2-22A3002A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D97F-7040-4B11-B7B1-05E2DCE1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6D3A-6385-456F-85BD-882D71D8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05B7-CF19-4DB7-AC55-4B81AA3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B5F-8060-41F7-BDF0-EC42039B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C91-2801-4854-B358-851F5A6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8C6-3AE6-4810-80D5-6455C1DA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CCD-0180-4AAA-8D93-544AEC9E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BCF-E098-4857-93D0-62D6126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212-9B8E-45DF-B61E-7D730D7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5A6-B7DD-43D0-A98E-7EB2266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57EDC3-8AD9-47E3-9BD3-2E4B83768E7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FFB3B-9D26-47ED-BA9B-9BFCC24408A1}" type="slidenum">
              <a: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bout-germany.org/culture/tradfashion.php" TargetMode="External"/><Relationship Id="rId2" Type="http://schemas.openxmlformats.org/officeDocument/2006/relationships/hyperlink" Target="http://www.buzzle.com/articles/traditional-german-clothing.html" TargetMode="External"/><Relationship Id="rId3" Type="http://schemas.openxmlformats.org/officeDocument/2006/relationships/hyperlink" Target="http://www.tatsachen-ueber-deutschland.de/en/modern-life/main-content-10/in-fine-shape-fashion-and-design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Fashion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me: German Customs and Traditio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Juliane Baldeweg-Ra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orks Cit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0b854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bout-germany.org/culture/tradfashion.php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0b854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buzzle.com/articles/traditional-german-clothing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0b854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tatsachen-ueber-deutschland.de/en/modern-life/main-content-10/in-fine-shape-fashion-and-design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Traditional German Cloth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2744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day, the term “tracht” is used to describe any garment reminiscent of the attire of rural communities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irndl is a traditional dress which was worn In the southern area of Germany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iginally, the drindl is a simplified version of the Folk costume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ress consists of a close fitting bodice worn with a blouse, a full skirt and an apron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day, the drindl is only worn at traditional events such as Oktoberfest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3516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3387600" cy="6553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495760" y="0"/>
            <a:ext cx="3648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raditional German Cloth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derhosen are knee length trousers which are are worn with rustic shoes and wool socks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derhosen were worn by Germanic men of the Alpine area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traditional style of German clothing was also worn by young German boys till the age of 16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many regions, such as Southern Germany, Bavaria and Austria, it is still acceptable to wear 'tracht' on official occasion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ke weddings, festivals, etc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duction of dirndl and lederhosen is a thriving industry in Germany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384012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59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rrent Fashion in German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German Fashion Association states that Germany is the world’s second largest exporter of fashion worldwid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many has developed an independent, self-confident style of its own.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fashion is fresh and wacky, elegant and purist to colorful, poetic design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everyday life, Germans tend to focus more on the down-to-earth.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man fashion companies were some of the first to adopt “green fashion” 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409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209680" y="2895480"/>
            <a:ext cx="541044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a woma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. Lederhos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. Drind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. Trach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. Sportswe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-60804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me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. Lederhos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. Drind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. Trach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. Sportswe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 to 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a woma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. Drind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a ma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. Lederhos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39:00Z</dcterms:created>
  <dc:creator>SCSadmin</dc:creator>
  <dc:description/>
  <dc:language>en-US</dc:language>
  <cp:lastModifiedBy>SCSadmin</cp:lastModifiedBy>
  <dcterms:modified xsi:type="dcterms:W3CDTF">2011-11-04T12:12:46Z</dcterms:modified>
  <cp:revision>6</cp:revision>
  <dc:subject/>
  <dc:title>Fashion</dc:title>
</cp:coreProperties>
</file>